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9EB-F12D-4DA4-8147-C1DD2F218AC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C56B-191C-4C33-8F9F-59A421E534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C37-626E-4FA7-A670-D63E40FF50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148-94DE-4368-967A-5D46EFEB0B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83F-A25B-4394-B252-BC8B716A15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1C1-ED46-4175-ADC5-C14C45E655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DCE-FF08-4561-8B10-2B72A896AD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0E8-3FA3-4A13-8250-EE0F61E3E2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58FB-3C6C-4803-84AA-CCF0F53A54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30D-CC5B-4BEE-AC0B-4086DD261C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2BB-D633-4FC2-9ED1-F808B5CE3B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D9B-6523-4BA0-B645-E7805C9311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59E-5B27-4E07-9DDA-1107023846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44DC-6055-4289-8F7D-9AA5F6ACA1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02E0-5B82-44D5-972C-E65ADCF5F9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3CF-3E23-4830-9B12-3CA1AC253C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9DC-94E7-4C8A-A7E2-9957F1ADEB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609F-1D77-4992-8FA6-2D8C0B4291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431-9EB4-4064-A9A6-65E3178FEA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BFC-E457-4DE1-9706-BADCAA4CB1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0ED-7AC0-4EDC-892C-43ECC1ACDD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B7B-89FA-498B-8359-3B6CC6B4BD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BC5-7022-4F9A-8B0C-B56AB01B89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483-94D0-40B2-9DD1-14FF808CC0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7D8-306A-4662-B032-116BC5D3E5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AD67-7DFF-40B6-8704-353875BC97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330-3176-46FA-9B28-840F209C38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83DA-891E-4E61-B07D-B2DE76B405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D0E-5C6B-4314-8805-49EA4506BD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04D-718E-4642-AFEC-1B0D2E3227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BD88-92DF-46A9-AC01-1B20BC95F6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86FF-C13D-4332-BBB7-5149CE7FC0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BB2D-521E-418E-B0DB-8964A1AB2C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2BF-7B8B-43C9-8BD2-620E1C3E9D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5EA-B789-4E38-A708-E4D479DA00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84BA-64F8-4F24-8254-DBCF4C3293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53FA-60EA-4A85-9A2F-92EF4CA7D9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83DC-9F51-4AE3-80EA-84CE2B14B4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BBDE-C638-456C-A866-A0F1AD48C8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CCB-E9C6-4828-A2E6-CFDF619ECF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F714-295B-49AC-B5BD-C82731CE43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5D44-BCE2-455A-A1C3-8FB2A6D5CF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64F4-9AFB-41E5-9C5E-1670679079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6736-79AE-46BE-BB07-18093D119D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656-73BF-41D5-BCE5-0982306489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6A3-71CD-486E-9FAD-336238F282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0ED-87CD-4D05-8074-A13CF63A5B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741-E2F0-48E5-8493-E8512E8E51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2F98-83DE-4A3C-837D-7E1C73B808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384F-933E-4582-AD72-BB6F93B034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877C-C8B7-4E6E-A0E9-A368231F2C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7911-B14D-49E1-B3BE-F3BE2DC200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7386-FE59-4E09-B62A-592BA03D1E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A86-3054-4780-ADF5-908C0844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F0-B49B-4A9D-AEC0-70D36A64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A34-5F80-4EA4-93E2-D81D8289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985-FF61-431D-836A-9200FB49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36E-45CB-4995-9F07-363A49E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EF1-06E3-4D6E-AA06-25A3BD2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BBE-4E74-4069-A205-8727A94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1E8-84D1-47B0-8331-5BBA5FF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C2E-CD22-42CD-9543-E57A21A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BEC-4D40-422B-B2BB-4774E11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123-A5D1-4BD6-989D-1BE057D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E35-5739-4946-9441-F6BFB4CD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7C02-B457-4914-8059-3932DD297B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400-3531-416B-84D1-9830CEF664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1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BF35-A4E4-4CE0-B66E-9A3126498A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7185-562B-4DD4-9017-FCFEF1D349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1BE-0871-49AE-BEF6-3A06A8213A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37B-0ED8-458A-B181-B3872A4A03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CE61-8ACE-4F94-964B-3988A830EB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634-0AC2-4DD1-8975-832BFCD13E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3A2-001B-41A8-B066-958F818761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500-B5FF-4BEC-B238-EC29F024DA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5E65-A99E-48EF-BADE-4271399B69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FFF8-0EC0-4457-9B93-9D1A92F1E2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E1A-73B1-448D-87FC-9950504039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23C-2A20-4CBF-AF01-BDFF79C3CB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04F-CB92-4E91-9FC0-2D54C1D789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D75-CEB6-4C14-A209-390BE66A31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8C9B-B880-4359-BF29-18839B04D1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02F-B21C-4185-9CEF-986FEDD025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189-424C-4833-B75B-05D0A18C52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3B0C-3F0C-4AA4-9A41-093D2E9033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A03-FCB4-4D64-A7A5-E8F919F86B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FBFF-6B65-4616-853F-BCD3F9D6F9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B9C-441C-4D5C-A4E6-E7CCFE501E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89B-E11C-4BCA-B011-330B00DE78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671B-22D4-4CEA-9DB7-9A8D969220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2353-6F95-460F-8FAC-18F603190E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CB38-C88C-498C-AD50-8B81EDE652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919-FA9E-4B97-ADAA-8E0C7CE199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245-3F90-4CC4-B22A-D2E870B0E0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935D-F686-455F-B247-C5B9F84E97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4977-72E9-4752-A96A-D993DF695F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5F95-0AE1-46D8-B675-7ACCD1FA90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C1C6-7FC1-4636-A889-64142CDF69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FE9-B790-455B-A952-7DA893E4F8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BA4-1534-42ED-94DC-CE43DC68D4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BC9-6090-445F-814A-23D067E16F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A941-0D20-45F7-AB63-38734B2444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37B-0E7A-4B80-BEF9-AF85F73CA0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E849-BC97-4937-9F77-0CDB0C511D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3C12-92A3-4094-AB9C-9E078CB15F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22A7-2C2B-4578-A559-75830244BE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F11E-CC39-4AAA-BED8-E8255A7298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B79A-67BB-49A2-9BA8-A9C7E7A6E1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576-2093-4A54-B272-55AFC97595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B7C-0EC2-43E9-B7F9-BBD23B2C29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4DA2-9BF1-4977-83C0-910C90D0D9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12EC-6BD2-4E6E-860C-3C18BD50A5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A25-D6F0-493E-807D-EDE257FDEA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612-2607-445F-A31D-BE93DE9E46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60D6-28C8-4A45-83AD-34274AB54A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7BD-CC89-4E9C-B13F-2844550DA4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109D-1CE0-4F20-BD7A-C16AE09DBF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C535-3174-4013-B46E-4FAAECD883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9C5-1936-438E-8085-BCA06595FD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DE5-466F-4004-B8C3-AFECAA8ACC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3CF-2D98-4A92-9680-24CCE1E145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C04-5A9B-4E73-8C54-AF3A82D4C8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1A5-A8A5-4F61-A242-EDEEE0FD06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6744-8616-42BA-9AA6-15F38A0293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795-880E-4C26-B54E-73D998DD90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2CA-C352-457F-A801-4828B00F75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066A-E6DB-4827-A658-3B8B04CBE4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3356-A117-447C-9E4A-63E006B56D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9EF-B6C7-428D-8B4B-B44D293FFA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A1A-E4F7-49B9-A5E4-64051142D6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6907-CA85-4638-8C84-64DE7A187D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77F-BC23-478A-BAE8-A094E81FA7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1-10-20T13:13:56Z</dcterms:modified>
  <cp:revision>82</cp:revision>
  <dc:subject/>
  <dc:title>Aims and Objectives</dc:title>
</cp:coreProperties>
</file>